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8C9E-9964-48E7-8C36-296B2D2828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0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0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a natural Greenhouse Effect, earth would be fro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a natural Greenhouse Effect, earth would be fro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continue to erup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% CO2, abrupt warming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continue to erup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% CO2, abrupt warming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ic Eruptions - Sudden output of CO2 (warming) or particulates (cool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ic Eruptions - Sudden output of CO2 (warming) or particulates (cool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, Haze, CO2 May Alter Clim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, Haze, CO2 May Alter Clim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F316-60C7-40B0-A6FA-89186A59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9F4D-10AC-4031-BEB7-FA18CD17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7B84-F218-4355-A51F-C4161FEE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DD16-1C95-42F9-88EF-74C44D02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F974-CC66-4AEE-BE96-D4CF1524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CAFA-BD47-41DE-9168-AB87362C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D121-BE77-4D7A-8F37-A16C1E55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D5A7-676E-4F95-86C6-5CFF5A90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F51B-6689-4E89-B8E6-29DE5290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975D-B7B5-456C-853C-46E28F41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21DC-C3B6-4957-9A3A-2109AB87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21B1-0027-4A2D-8F43-0F48605D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F5DA-1685-4586-B8E5-97DCFFA7B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300 M.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eenhouse Effect, earth would be fro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canoes continue to erupt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10%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brupt warming be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canic Eruptions - Sudden output of 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warming) or particulates (cool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oke, Haze,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Alter Clim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80880" y="228600"/>
          <a:ext cx="8458200" cy="6267600"/>
        </p:xfrm>
        <a:graphic>
          <a:graphicData uri="http://schemas.openxmlformats.org/drawingml/2006/table">
            <a:tbl>
              <a:tblPr/>
              <a:tblGrid>
                <a:gridCol w="1828800"/>
                <a:gridCol w="1752840"/>
                <a:gridCol w="1447560"/>
                <a:gridCol w="1737000"/>
                <a:gridCol w="1692000"/>
              </a:tblGrid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(1000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h Ame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hern Eur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and-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glaci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scon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u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t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s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-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ga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zn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-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linoi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rthe/Sa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ac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-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rmo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et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s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omir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-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n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rosla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-3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on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om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khv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0-4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Nebraskan 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n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ap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0-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al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0-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u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ybou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-5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gl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-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u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-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ut 20 Glacial Adv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(2 M.Y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ginning of Pleistoc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 (4 M.Y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warf forests still in Antarc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M.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Glaciation in Antarctic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O18Record800Ka"/>
          <p:cNvPicPr/>
          <p:nvPr/>
        </p:nvPicPr>
        <p:blipFill>
          <a:blip r:embed="rId1"/>
          <a:stretch/>
        </p:blipFill>
        <p:spPr>
          <a:xfrm>
            <a:off x="685800" y="1981080"/>
            <a:ext cx="79246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266688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DeepSeaRecord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495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Milankovich0"/>
          <p:cNvPicPr/>
          <p:nvPr/>
        </p:nvPicPr>
        <p:blipFill>
          <a:blip r:embed="rId1"/>
          <a:stretch/>
        </p:blipFill>
        <p:spPr>
          <a:xfrm>
            <a:off x="1523880" y="1447920"/>
            <a:ext cx="6286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38102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PrecessAxis"/>
          <p:cNvPicPr/>
          <p:nvPr/>
        </p:nvPicPr>
        <p:blipFill>
          <a:blip r:embed="rId1"/>
          <a:stretch/>
        </p:blipFill>
        <p:spPr>
          <a:xfrm>
            <a:off x="4191120" y="1219320"/>
            <a:ext cx="4419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40384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Milankovich1"/>
          <p:cNvPicPr/>
          <p:nvPr/>
        </p:nvPicPr>
        <p:blipFill>
          <a:blip r:embed="rId1"/>
          <a:stretch/>
        </p:blipFill>
        <p:spPr>
          <a:xfrm>
            <a:off x="1447920" y="1143000"/>
            <a:ext cx="6286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8T21:10:32Z</dcterms:created>
  <dc:creator>Steven Dutch</dc:creator>
  <dc:description/>
  <dc:language>en-US</dc:language>
  <cp:lastModifiedBy>RomaK</cp:lastModifiedBy>
  <dcterms:modified xsi:type="dcterms:W3CDTF">2015-09-04T09:43:17Z</dcterms:modified>
  <cp:revision>14</cp:revision>
  <dc:subject/>
  <dc:title>Glaciers </dc:title>
</cp:coreProperties>
</file>